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4CB9-C4C5-42EF-9135-7565699C44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062-E830-4B6D-A7EE-3A2D58465A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F090-5060-4C99-BE4E-1600C2E4B2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5E18-61EC-436B-B52D-E08CE86DBA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E55F-A0FD-4A32-B4EC-1677857BF4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FE13-432F-4EE2-9473-5DA94CECF8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C866-E9E9-4D8B-8CD4-5F5E0B5A00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4C9B-B611-49BA-8748-25F3FA826C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4161-744B-468F-BA0C-25AA0B6AEC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7573-B045-4D30-8173-CB5B4E298C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EAE-9E07-4A8E-AB66-706DC4E412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159-1D66-42F3-BB2E-96CFCFD8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55B-FF0C-4DD5-B8D3-0D4891A3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3BF-727F-4D12-B80B-B5057B07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2BD-7C75-4103-A61A-AF562CF6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2D4-8A6B-4080-A25B-C0790ED9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272-393B-456E-8140-E92F9C93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986-4FE9-4FA6-980B-1E198A92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E11-9DDC-487F-A985-80589080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B5E-6F6F-4C94-9C7F-35081F79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1D7-7F5E-45C5-AC7C-CD25A2A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563-24AD-4EB1-A343-C07710E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2D9-0071-4AAC-B97C-7C77EBD9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10AD-57ED-4519-8BE2-19CAB1997E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4T20:55:53Z</dcterms:modified>
  <cp:revision>36</cp:revision>
  <dc:subject/>
  <dc:title>People who change the world</dc:title>
</cp:coreProperties>
</file>